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2E20B-D0CE-444E-B509-09CC7DA45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BD813-02DA-4C94-AEC3-DC7759C6F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with all previous lessons this should follow a similar form with the agenda and session objectives set out at the beginning of the les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E0E4A-F295-4EC6-9560-3809ED05C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026E9-40A6-4477-930C-1A82BFC894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DCD3-59F3-4331-9EBA-3451A291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877-401A-4818-B536-2A144B95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BEC-DEF0-4235-8835-2B4FD27E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199-7010-4203-BD97-E1DAA8C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432-E80B-43EE-ABD9-6D26E047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B31-849D-46CD-BBA4-903EAC19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502F-2C5A-4CAA-88A2-493B106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C30-8643-4C8C-A6F0-12DE8749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005-EB4C-4B05-B08F-BBA1A4F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E58-5F77-47B3-8070-DB033E4B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776-9BF8-46BA-AD38-30B96779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6B1-BB27-44FE-924A-52F876C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82DFE-7497-4EF2-B13B-6A90E249E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Сесија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Преглед на ден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800" spc="-1" strike="noStrike">
                <a:solidFill>
                  <a:srgbClr val="000000"/>
                </a:solidFill>
                <a:latin typeface="Arial"/>
              </a:rPr>
              <a:t>Напредна обука за компјутерски криминал за судии и обвинител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</a:rPr>
              <a:t>На крајот од часот уче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од активностите од претходните денови што ги разбира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каде што им треба повторно да се помине материјалот за знаењето да им биде на потребнот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560"/>
            <a:ext cx="85136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100" spc="-1" strike="noStrike">
                <a:solidFill>
                  <a:srgbClr val="000000"/>
                </a:solidFill>
                <a:latin typeface="Arial"/>
              </a:rPr>
              <a:t>Теми на Ден 1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очеток на курсот и запозн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подготвување истра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на истра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откривање осомнич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400" y="4500720"/>
            <a:ext cx="34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Arial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Oliver</cp:lastModifiedBy>
  <dcterms:modified xsi:type="dcterms:W3CDTF">2013-07-04T12:06:01Z</dcterms:modified>
  <cp:revision>13</cp:revision>
  <dc:subject/>
  <dc:title>Introductory Cybercrime Training for Judges and Prosecutors</dc:title>
</cp:coreProperties>
</file>